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DE3-5CF6-4E6B-90BE-309E4214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4BA-468D-45AC-A68A-88E311E5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DE3-7DE7-49DF-A36A-D8CE4B0C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66C-2E98-494E-BF0C-418D9D9F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103-5876-4765-BCAD-A3DB09F4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91A-39E1-40E4-B357-C6CC0DA7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81F-D5DE-4137-8650-04D60C01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A55-EC13-476C-AD8B-70290A76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FB5-C6C6-42A0-821A-F24CD1C1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F67-0F1A-4ADD-878C-2C3B7A6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CA5-EC7F-4ABE-96F9-A40C93FC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6D9-A7B9-4F51-9D01-D56263B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436A-6DD3-4590-B623-CEEA39E293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tbeheerder Zuid Dren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tbeheerder Noord Overij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 2030 distributie van duurzaam gas i.p.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ssiel ga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.V. RENDO H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verweg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lijk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vraging zonnepa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rmtenetten niet rend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vlak energietransi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elijke kosten + woonl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Oplossingen Energietransitie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aande gasinfrastructuur (op or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tentie groen gas (onderzoc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2018 3% groen gas in RENDO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oogeveen op zonnige dag nu al v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ardgas a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2019 9% / over enkele jaren ruim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n gas in RENDO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Oplossingen Energietransitie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ar 100% duurzaam gas in 20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novatieve samenwerkingsverb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afw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kaal geproduceerd, lokaal geconsumeerd, lokaal geprofiteer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Oplossingen Energietransitie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sen groene waterstof (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terstofne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al aangelegd in Zuid Dren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ductie groen ga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v. oude NAM loc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venanten met gemeenten (pilo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olden (Dr.) en Staphorst (O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fossiel naar duurzaam g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ijl: rechts 3"/>
          <p:cNvSpPr/>
          <p:nvPr/>
        </p:nvSpPr>
        <p:spPr>
          <a:xfrm rot="16200000">
            <a:off x="4572000" y="2925360"/>
            <a:ext cx="431640" cy="142920"/>
          </a:xfrm>
          <a:prstGeom prst="rightArrow">
            <a:avLst>
              <a:gd name="adj1" fmla="val 50000"/>
              <a:gd name="adj2" fmla="val 5019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ijl: gebogen omhoog 6"/>
          <p:cNvSpPr/>
          <p:nvPr/>
        </p:nvSpPr>
        <p:spPr>
          <a:xfrm rot="5400000">
            <a:off x="964080" y="3491640"/>
            <a:ext cx="360360" cy="203400"/>
          </a:xfrm>
          <a:custGeom>
            <a:avLst/>
            <a:gdLst/>
            <a:ahLst/>
            <a:rect l="l" t="t" r="r" b="b"/>
            <a:pathLst>
              <a:path w="360362" h="203200">
                <a:moveTo>
                  <a:pt x="0" y="152400"/>
                </a:moveTo>
                <a:lnTo>
                  <a:pt x="284162" y="152400"/>
                </a:lnTo>
                <a:lnTo>
                  <a:pt x="284162" y="50800"/>
                </a:lnTo>
                <a:lnTo>
                  <a:pt x="258762" y="50800"/>
                </a:lnTo>
                <a:lnTo>
                  <a:pt x="309562" y="0"/>
                </a:lnTo>
                <a:lnTo>
                  <a:pt x="360362" y="50800"/>
                </a:lnTo>
                <a:lnTo>
                  <a:pt x="334962" y="50800"/>
                </a:lnTo>
                <a:lnTo>
                  <a:pt x="334962" y="203200"/>
                </a:lnTo>
                <a:lnTo>
                  <a:pt x="0" y="203200"/>
                </a:lnTo>
                <a:lnTo>
                  <a:pt x="0" y="152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ijl: gebogen omhoog 7"/>
          <p:cNvSpPr/>
          <p:nvPr/>
        </p:nvSpPr>
        <p:spPr>
          <a:xfrm rot="5400000">
            <a:off x="964080" y="5236200"/>
            <a:ext cx="360360" cy="203400"/>
          </a:xfrm>
          <a:custGeom>
            <a:avLst/>
            <a:gdLst/>
            <a:ahLst/>
            <a:rect l="l" t="t" r="r" b="b"/>
            <a:pathLst>
              <a:path w="360362" h="203200">
                <a:moveTo>
                  <a:pt x="0" y="152400"/>
                </a:moveTo>
                <a:lnTo>
                  <a:pt x="284162" y="152400"/>
                </a:lnTo>
                <a:lnTo>
                  <a:pt x="284162" y="50800"/>
                </a:lnTo>
                <a:lnTo>
                  <a:pt x="258762" y="50800"/>
                </a:lnTo>
                <a:lnTo>
                  <a:pt x="309562" y="0"/>
                </a:lnTo>
                <a:lnTo>
                  <a:pt x="360362" y="50800"/>
                </a:lnTo>
                <a:lnTo>
                  <a:pt x="334962" y="50800"/>
                </a:lnTo>
                <a:lnTo>
                  <a:pt x="334962" y="203200"/>
                </a:lnTo>
                <a:lnTo>
                  <a:pt x="0" y="203200"/>
                </a:lnTo>
                <a:lnTo>
                  <a:pt x="0" y="152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RE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taalbare + haalbare energietransitie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i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timale regionale energie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12:40:01Z</dcterms:created>
  <dc:creator>Jan Frans Bennema</dc:creator>
  <dc:description/>
  <dc:language>en-US</dc:language>
  <cp:lastModifiedBy>Vera Noordhuis</cp:lastModifiedBy>
  <cp:lastPrinted>2019-03-12T15:34:39Z</cp:lastPrinted>
  <dcterms:modified xsi:type="dcterms:W3CDTF">2019-03-27T11:00:29Z</dcterms:modified>
  <cp:revision>375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or">
    <vt:lpwstr>S. Virginia</vt:lpwstr>
  </property>
  <property fmtid="{D5CDD505-2E9C-101B-9397-08002B2CF9AE}" pid="3" name="Gereserveerd">
    <vt:lpwstr>1</vt:lpwstr>
  </property>
  <property fmtid="{D5CDD505-2E9C-101B-9397-08002B2CF9AE}" pid="4" name="GereserveerdDoor">
    <vt:lpwstr>VIRS2607</vt:lpwstr>
  </property>
</Properties>
</file>