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FFC-0C41-4C9E-A06B-7ACBFAED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D15-CD94-4E62-BBEA-65FA442C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10C-3095-4F2F-861F-C39B4E15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EFF-1863-4D95-8B4A-406B8858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D55-DA18-4516-9225-716285B1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DAF-227A-416B-8E76-E1B5D63E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2AF-9D75-4940-8757-004069C2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72E-7EB9-4526-A2A8-0786284C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DD1-143E-4922-A1E0-896C079B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434-812B-4996-A891-7BD56C8B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066-0BF5-45F6-A7BB-BD5D9677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301-2E7D-4D51-BB51-48070CE4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B756-ACF3-4F84-9F68-0323B8CF0A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tbeheerder Zuid Dren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tbeheerder Noord Overij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 2030 distributie van duurzaam gas i.p.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fossiel ga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.V. RENDO Ho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verweg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0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lijk geb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vraging zonnepa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rmtenetten niet rend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vlak energietransi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schappelijke kosten + woonl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Oplossingen Energietransiti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434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nde gasinfrastructuur (op or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tentie groen gas (onderzo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2018 3% groen gas in RENDO 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oogeveen op zonnige dag nu al v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ardgas a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2019 9% / over enkele jaren ruim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n gas in RENDO geb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Oplossingen Energietransiti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ar 100% duurzaam gas in 20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novatieve samenwerkingsverb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afw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kaal geproduceerd, lokaal geconsumeerd, lokaal geprofiteerd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Oplossingen Energietransitie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sen groene waterstof (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terstofne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dt al aangelegd in Zuid Dren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ductie groen gas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. oude NAM loc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venanten met gemeenten (pilo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Wolden (Dr.) en Staphorst (O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 fossiel naar duurzaam g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ijl: rechts 3"/>
          <p:cNvSpPr/>
          <p:nvPr/>
        </p:nvSpPr>
        <p:spPr>
          <a:xfrm rot="16200000">
            <a:off x="4572000" y="2925360"/>
            <a:ext cx="431640" cy="142920"/>
          </a:xfrm>
          <a:prstGeom prst="rightArrow">
            <a:avLst>
              <a:gd name="adj1" fmla="val 50000"/>
              <a:gd name="adj2" fmla="val 5019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ijl: gebogen omhoog 6"/>
          <p:cNvSpPr/>
          <p:nvPr/>
        </p:nvSpPr>
        <p:spPr>
          <a:xfrm rot="5400000">
            <a:off x="964080" y="3491640"/>
            <a:ext cx="360360" cy="203400"/>
          </a:xfrm>
          <a:custGeom>
            <a:avLst/>
            <a:gdLst/>
            <a:ahLst/>
            <a:rect l="l" t="t" r="r" b="b"/>
            <a:pathLst>
              <a:path w="360362" h="203200">
                <a:moveTo>
                  <a:pt x="0" y="152400"/>
                </a:moveTo>
                <a:lnTo>
                  <a:pt x="284162" y="152400"/>
                </a:lnTo>
                <a:lnTo>
                  <a:pt x="284162" y="50800"/>
                </a:lnTo>
                <a:lnTo>
                  <a:pt x="258762" y="50800"/>
                </a:lnTo>
                <a:lnTo>
                  <a:pt x="309562" y="0"/>
                </a:lnTo>
                <a:lnTo>
                  <a:pt x="360362" y="50800"/>
                </a:lnTo>
                <a:lnTo>
                  <a:pt x="334962" y="50800"/>
                </a:lnTo>
                <a:lnTo>
                  <a:pt x="334962" y="203200"/>
                </a:lnTo>
                <a:lnTo>
                  <a:pt x="0" y="203200"/>
                </a:lnTo>
                <a:lnTo>
                  <a:pt x="0" y="152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ijl: gebogen omhoog 7"/>
          <p:cNvSpPr/>
          <p:nvPr/>
        </p:nvSpPr>
        <p:spPr>
          <a:xfrm rot="5400000">
            <a:off x="964080" y="5236200"/>
            <a:ext cx="360360" cy="203400"/>
          </a:xfrm>
          <a:custGeom>
            <a:avLst/>
            <a:gdLst/>
            <a:ahLst/>
            <a:rect l="l" t="t" r="r" b="b"/>
            <a:pathLst>
              <a:path w="360362" h="203200">
                <a:moveTo>
                  <a:pt x="0" y="152400"/>
                </a:moveTo>
                <a:lnTo>
                  <a:pt x="284162" y="152400"/>
                </a:lnTo>
                <a:lnTo>
                  <a:pt x="284162" y="50800"/>
                </a:lnTo>
                <a:lnTo>
                  <a:pt x="258762" y="50800"/>
                </a:lnTo>
                <a:lnTo>
                  <a:pt x="309562" y="0"/>
                </a:lnTo>
                <a:lnTo>
                  <a:pt x="360362" y="50800"/>
                </a:lnTo>
                <a:lnTo>
                  <a:pt x="334962" y="50800"/>
                </a:lnTo>
                <a:lnTo>
                  <a:pt x="334962" y="203200"/>
                </a:lnTo>
                <a:lnTo>
                  <a:pt x="0" y="203200"/>
                </a:lnTo>
                <a:lnTo>
                  <a:pt x="0" y="152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RE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taalbare + haalbare energietransitie 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i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timale regionale energie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2:40:01Z</dcterms:created>
  <dc:creator>Jan Frans Bennema</dc:creator>
  <dc:description/>
  <dc:language>en-US</dc:language>
  <cp:lastModifiedBy>Vera Noordhuis</cp:lastModifiedBy>
  <cp:lastPrinted>2019-03-12T15:34:39Z</cp:lastPrinted>
  <dcterms:modified xsi:type="dcterms:W3CDTF">2019-03-27T11:00:29Z</dcterms:modified>
  <cp:revision>375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or">
    <vt:lpwstr>S. Virginia</vt:lpwstr>
  </property>
  <property fmtid="{D5CDD505-2E9C-101B-9397-08002B2CF9AE}" pid="3" name="Gereserveerd">
    <vt:lpwstr>1</vt:lpwstr>
  </property>
  <property fmtid="{D5CDD505-2E9C-101B-9397-08002B2CF9AE}" pid="4" name="GereserveerdDoor">
    <vt:lpwstr>VIRS2607</vt:lpwstr>
  </property>
</Properties>
</file>